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151-91F2-413E-AC46-99795F40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93A-7714-467A-B251-95A49FE1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068-AB28-4C9A-838F-F038FE66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6B6-ACA3-490B-ABB6-AA5810C6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E84-8885-440F-BD14-EEA5C59C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E86-8B3A-4C97-90DF-1012C49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248-D474-40B3-BA56-EEAD123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4F4-D500-4DBC-B1B7-4263E86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BF1-77EE-4989-BE9E-74648A8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270-709D-40EC-8958-6144FC6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CF4-A2E6-4095-A985-6554B2B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0CB-3C12-4BE4-9AB9-FC3BD34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9FE-BF86-4BB5-8564-2DC3FF8B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lam rules over Spain, Omayyad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dova the Ca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 11C El Cid pushes back at Omayyad Dyna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4- Sp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an Catholic and Orthodox Chu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an Catholic Church soon enacts doctr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est Celib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y and Investi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ation of Pope (el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di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iam the Conqueror defeats Harold at the Battle of Ha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nry IV (HRE) and Gregory VII (Pop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oral v. Spiritual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di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rus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us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II (Lionhea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edral of St. Denis (Su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largely Christia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Francis of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iscan Order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ies begin to be established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4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usade ransacks Constantin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ice controls Constantinople next 60+ years- further decay of Byzantine Emp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tomans move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a Carta (King John “Softsword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ateran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Sem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nada remaining Islamic but under the control of Castile, waning of Islamic Power in S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erno, Divine Com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Parliament Cre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of Burg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o Polo travels to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2 Boniface VIII and Philip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09 Avignon Pap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15 Widespread F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37 100 y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ard III claim to thr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tes General created during W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le of Koso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at Sc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0 ci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Wycl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 Ri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que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hn Bull (Lollar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ian Rebell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toman empire gains ground in Asia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k Scholars move 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tr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ccac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ot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u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ar Movement- A Single Pope (Rome) Martin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of Jan 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year War- Battle of Agin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 Henry the 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ry Islands and Azores Is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dici’s rule Flo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0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tenberg invents Printing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Hundred Year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 Un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an of Arc helps lead victory (executed as Heret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inople taken by Ott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55 War of the 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Tudors take power (Henry 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la (Aragon), Ferdinand (Castille) tak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anish Inquisition starts (14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92 Grenada defeated- Jews and Muslims order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G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19:29Z</dcterms:created>
  <dc:creator>Darien Public Schools</dc:creator>
  <dc:description/>
  <dc:language>en-US</dc:language>
  <cp:lastModifiedBy>Darien Public Schools</cp:lastModifiedBy>
  <dcterms:modified xsi:type="dcterms:W3CDTF">2008-09-09T18:24:11Z</dcterms:modified>
  <cp:revision>2</cp:revision>
  <dc:subject/>
  <dc:title>Significant Events</dc:title>
</cp:coreProperties>
</file>